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595-296A-43E1-9280-DB5E2A55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212-6DC7-496F-A962-768C408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90D-34DD-4E7D-93E0-4192CDEB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05D-09D5-4576-979F-074843FF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855-ACF2-4C29-8A7B-7F772F25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96B-7AF4-4D35-8F1D-F344486E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301-71C0-4230-96C8-534A2D0C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6A7-B4D7-4A49-87C2-ADF878F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D90-E399-4F0C-BC60-F9AF2CB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147-E397-45D3-BD0D-8E2C5EE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464-8921-4FC7-B756-FCB5E8E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31E-E9E3-44C2-8A89-2BB97C86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DEC6-3651-481F-B7FC-A885D5964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industrie photograph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3008160"/>
            <a:ext cx="2881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. Eastman Kod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ques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888 : lancement de la ma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963 : succès de l’Insta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995 : premier appareil numérique Kodak : le DCS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ques chiffres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hiffre d’affaires : 12.8 milliards d’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ésultat net : 770 millions d’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ffectifs : 70000 sala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b. Fujifi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15200" y="189000"/>
            <a:ext cx="1828800" cy="380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12536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ques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934 : création de la ma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965 : implantation aux Etats-U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984 : partenaire officiel des J.O. de Los Ang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ques chiffres (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hiffre d’affaires : 13.4 milliards d’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ésultat net : 1.1 milliards d’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ffectifs : 72000 sala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. Agfa Geva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590840" cy="409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12536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ques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867 : fondation de Agfa (industrie chim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894 : fondation de Gevaert (papier photograph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1964 : fusion Agfa / Geva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ques chiffres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hiffre d’affaires : 4.7 milliards d’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ésultat net : 194 millions d’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ffectifs : 21000 sala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grands marchés de dévelop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hotographie numé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depuis les années 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ces phot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depuis les années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. Persp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ession rapide du marche qui rattrape peu à peu celui de l’argen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s techniques de plus en plus proches de l’argen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x en baisse = plus abordables face aux classiques moins innov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. Photographie numér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2884680" cy="1673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64000" y="3645000"/>
            <a:ext cx="2911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ecteur en plein développement dans tous les dom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’image, un produit de m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ervices internet (numérisation, développemen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b. Services photograph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Arial"/>
              </a:rPr>
              <a:t>Histoire de la photograph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chez.com/photoimage/histoire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niepce.com/pages/page-inv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ensicaen.ismra.fr/~photo/encyclopedia/histoire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Arial"/>
              </a:rPr>
              <a:t>Données économiques et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etudiant.lefigaro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kodak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fujifilm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agfa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ttp://www.quid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cience et Vie Micro n° 205 et 2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l’ex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act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1. Histori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es prém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es inven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’invention des appareils photograph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ux innovations majeures : la photo couleur et le 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 l’après-guerre à nos j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ém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XVIe siècle : Léonard de Vinci : la camera obsc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XVIIe : généralisation de la chambre no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727 : Schulze parvient à obtenir des images sur des solutions de nitrate d'arg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invent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22 : Niepce obtient la 1ère 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27 : Niepce et Daguerre collabo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33 : Mort de Nie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39 : Daguerre obtient le premier positif qu’il appelle        « daguerréotyp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1 : Talbot obtient le premier négatif : le « calotyp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86520" y="1887480"/>
            <a:ext cx="1162080" cy="160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86520" y="4056120"/>
            <a:ext cx="1162080" cy="1952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451640" y="2852640"/>
            <a:ext cx="116208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invention des appareils ph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868 : 1er "KODAK" mis au point par Georges Ea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888 : Eastman crée la Eastman Cie qui deviendra Kod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24 : Barnack met au point le premier Leica qui ne pèse que 50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310680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86520" y="1773360"/>
            <a:ext cx="1431720" cy="172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219640" y="3876840"/>
          <a:ext cx="3564000" cy="26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3876840"/>
                    <a:ext cx="3564000" cy="26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 innovations majeures:          la couleur et le fl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878: les « photochromies » de Louis Ducos du Haur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903: les frères Lumière inventent « l’autochrome 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935: apparition de la pellicule couleur Kodachrome qui permet d'obtenir des diapositives cou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925, le Dr. Paul Vierkoetter brevète la lampe éclai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même moment, les frères Seguin conçoivent le Stroborama. Ils inventent le tube éclair qui, repris par l'Américain Edgerton, débouche sur la création du flash électro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après-guer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à nos j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47 : Edwin Herbert Land lance la photographie instantanée avec le fameux Polaroï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48 : le Suédois Hasselblad met au point un système photographique choisi par la NASA pour ses expéditions dans l'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63 : lancement du Kodak Instamatic qui sera l’appareil photo le plus vendu au m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78:  Premier appareil auto-focus (Kon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90:  Premier appareil numérique sans fil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2159280" cy="16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524720" y="4292640"/>
            <a:ext cx="1352520" cy="1666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19640" y="1658880"/>
            <a:ext cx="32400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2. Situation actue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11280" y="184464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mination de 3 grands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Eastman Kod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Verdana"/>
              </a:rPr>
              <a:t>(américa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Fuji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Verdana"/>
              </a:rPr>
              <a:t>(japona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Agfa Geva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Verdana"/>
              </a:rPr>
              <a:t>(allem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6000" y="2637000"/>
            <a:ext cx="792000" cy="70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182880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435640" y="4724280"/>
            <a:ext cx="15904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5T11:17:47Z</dcterms:created>
  <dc:creator>PRESUMEY</dc:creator>
  <dc:description/>
  <dc:language>en-US</dc:language>
  <cp:lastModifiedBy>PRESUMEY</cp:lastModifiedBy>
  <dcterms:modified xsi:type="dcterms:W3CDTF">2003-06-17T16:15:26Z</dcterms:modified>
  <cp:revision>16</cp:revision>
  <dc:subject/>
  <dc:title>L’industrie photographique</dc:title>
</cp:coreProperties>
</file>